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7B6-8BB1-4AC9-AC51-87D9CD9D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627-3FDF-4FC3-8DDA-E200A1D2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96F-F19B-4647-96C6-BDBDA5B5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A69-2E90-4332-8516-55F77243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EDC-D830-4F74-818A-6B6F9537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5A1-B037-4BB3-9D1D-F89ABC41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F3A-2D54-4CC7-94A8-EE3EE0AF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A0F-181E-4E61-9C3D-0770463D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774-1396-42DD-8435-5468DED3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400-D314-4B71-98BF-CE595566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FDD-83A8-4F12-AB43-4EF7460B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FC1-BF1D-4761-A454-A45F2EF9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51B6-156C-452E-90D6-06D4AFF4A99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Тема проекта: Как помочь ребенку научиться декодировать графическую информацию?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Группа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Тиранова Александр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Козлова Любов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Добрынина Анастасия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Козлова Капитолин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Анализ программ</a:t>
            </a:r>
            <a:br>
              <a:rPr sz="4000"/>
            </a:b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(Васильева, Детство, Парма, Истоки, Развитие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аким образом, анализ программ показал, что 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в программах не уделяется достаточного внимания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умению декодировать графическую информаци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Задания для развития умений декодировать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Calibri"/>
              </a:rPr>
              <a:t>Умение определять и называть вид графического изображения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Возможные задания: «Назови, какие геометрические фигуры изображены на картинке?»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Calibri"/>
              </a:rPr>
              <a:t>2.   Анализ графического состава изображений: (свойств объекта и их частей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Возможные задания: «Из каких геометрических фигур состоит замок принцессы?»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Задания для развития умений декодирова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Calibri"/>
              </a:rPr>
              <a:t>3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.   Конструирование объектов на основе схем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озможные задания: «Построй крепость для жителей страны Графляндии по их чертежам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4.  Чтение и воспроизведение объекта на основе изображений и последовательности действ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озможные задания: «Построй кораблик из бумаги» (оригами по схеме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Волшебная страна «Графляндия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57200" y="1857240"/>
            <a:ext cx="8229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Замок Принцессы Геометр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57200" y="1987560"/>
            <a:ext cx="8229600" cy="3751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Главные геро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 rot="20716800">
            <a:off x="879120" y="2885760"/>
            <a:ext cx="2836800" cy="2786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 rot="573600">
            <a:off x="4943160" y="1888920"/>
            <a:ext cx="3209760" cy="30286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7" descr=""/>
          <p:cNvPicPr/>
          <p:nvPr/>
        </p:nvPicPr>
        <p:blipFill>
          <a:blip r:embed="rId3"/>
          <a:stretch/>
        </p:blipFill>
        <p:spPr>
          <a:xfrm>
            <a:off x="712800" y="5211720"/>
            <a:ext cx="5376960" cy="114624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1" descr=""/>
          <p:cNvPicPr/>
          <p:nvPr/>
        </p:nvPicPr>
        <p:blipFill>
          <a:blip r:embed="rId4"/>
          <a:stretch/>
        </p:blipFill>
        <p:spPr>
          <a:xfrm>
            <a:off x="3139920" y="4522680"/>
            <a:ext cx="62168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Вывод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58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аким образом, 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овладение умением декодировать графическую информацию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будет способствовать наиболее 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успешному  обучению ребенка в школе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, так как  учит правильно читать графические изображения, помогает ориентироваться в окружающей действительнос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Рекомендаци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71680" y="7855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ключать  в занятия игры и упражнения на развитие умения декодировать графическую информаци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ращать внимание детей на примеры декодирования встречающиеся в повседневной жизн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рганизация консультаций: «Знакомство с рабочими тетрадями» с подробным инструктажем по работе с ним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формление стендов, изготовление буклетов для родителей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2 часть оригами.avi" descr=""/>
          <p:cNvPicPr/>
          <p:nvPr/>
        </p:nvPicPr>
        <p:blipFill>
          <a:blip r:embed="rId1"/>
          <a:stretch/>
        </p:blipFill>
        <p:spPr>
          <a:xfrm>
            <a:off x="1285920" y="1214280"/>
            <a:ext cx="679284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5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17375e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1 часть оригами.avi" descr=""/>
          <p:cNvPicPr/>
          <p:nvPr/>
        </p:nvPicPr>
        <p:blipFill>
          <a:blip r:embed="rId1"/>
          <a:stretch/>
        </p:blipFill>
        <p:spPr>
          <a:xfrm>
            <a:off x="1428840" y="1500120"/>
            <a:ext cx="66261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Цель проекта: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Ознакомить с основными приёмами декодирования графической информаци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Основные задачи проекта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9284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пределение понятия декодирование и состава графических умений декодирова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Анализ програм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зработка диагностических заданий  для детей старшей группы по выявлению умения декодировать графическую информаци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зработать систему игровых заданий для развития умения декодировать графическую информаци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Основополагающий вопрос: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856880"/>
            <a:ext cx="82296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Может ли ребенок обойтись без умения 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декодировать графическую информацию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На заметку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Наталья Васильевна Квач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выделила  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проблемы затрудняющие успешное обучение в школе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 при слабом развитии образного мышления и несформированности графических навык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На заметку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Следовательно, условием успешного овладения графическим навыкам в частности является умение декодировать графическую информацию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Что такое декодирование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17375e"/>
                </a:solidFill>
                <a:latin typeface="Calibri"/>
              </a:rPr>
              <a:t>Декодирование –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 это процесс восстановления информации по её кодированной форме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Calibri"/>
              </a:rPr>
              <a:t>Декодирование в широком смысле – 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ение готовых изображений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Основные умения декодировать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Умение определять и называть вид графического изображе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Умение анализировать состав графического изображения: (свойств объекта и их частей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Умение конструировать объекты на основе схем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Умение читать и последовательно воспроизводить действия при изготовлении объектов на основе изображ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2:18:42Z</dcterms:created>
  <dc:creator>Капа</dc:creator>
  <dc:description/>
  <dc:language>en-US</dc:language>
  <cp:lastModifiedBy>Dragon</cp:lastModifiedBy>
  <dcterms:modified xsi:type="dcterms:W3CDTF">2010-01-11T07:30:28Z</dcterms:modified>
  <cp:revision>39</cp:revision>
  <dc:subject/>
  <dc:title>Тема проекта: как помочь ребенку научиться декодировать графическую информацию? </dc:title>
</cp:coreProperties>
</file>